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EF2-53DD-45B4-B8B1-441855A2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1DD-7082-4579-B3C3-3BFEF055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210-80F9-4E0F-93DB-603C4B7A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552-2332-433E-A04F-F9B858EC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50BF-A076-433A-9642-D4A90213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54C5-13DD-4879-BB68-F3CA4EC5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F053-B813-400C-98C1-878C184A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525A-19F1-46C1-A0A2-0D8EB30B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4521-4056-487B-BA4E-7E4CC00B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C351-3C5D-4991-9680-2B356668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7BE9-5519-4DC3-8073-3F78D3D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46D-DDE4-4029-81FD-3A8459F3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09AE-DE0C-4ECD-BE84-51F939F0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5FF5-FA78-4632-9D61-780B64FC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8743-4DE3-46AE-8914-989DC23A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E60D-4F01-4C1B-AC89-DD7368C9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D165-6D2C-4A54-B714-0EDEFB82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427-5725-4CA9-B58C-CB65386C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402-3D2A-41FE-B6D4-8DBF4BA6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9C1-2A0E-435A-8E8A-B9C7CA30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4AF-9400-448E-A65F-9A5FC0D6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106-2ECE-4835-AC42-DBFACF68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50E-B4A5-489B-9807-90AA79BF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3CF-2E4F-4911-B2AB-EEAA8FB4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AC4E-C1B3-4B2C-9B61-62997F8719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6F7A-9D95-4E55-9ABD-E14FA91018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Broadway"/>
              </a:rPr>
              <a:t>MEMOIR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0" y="2398680"/>
            <a:ext cx="23716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MEMOI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moir is not what happens, but the person to whom things happen.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Virginia Woo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11680" y="2333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Virginia Woolf"/>
          <p:cNvPicPr/>
          <p:nvPr/>
        </p:nvPicPr>
        <p:blipFill>
          <a:blip r:embed="rId1"/>
          <a:stretch/>
        </p:blipFill>
        <p:spPr>
          <a:xfrm>
            <a:off x="5562720" y="3276720"/>
            <a:ext cx="1523880" cy="25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809880" y="2975040"/>
          <a:ext cx="1339920" cy="517320"/>
        </p:xfrm>
        <a:graphic>
          <a:graphicData uri="http://schemas.openxmlformats.org/drawingml/2006/table">
            <a:tbl>
              <a:tblPr/>
              <a:tblGrid>
                <a:gridCol w="133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924680" cy="1371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Memoir is a window into a life.”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illiam Zins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514600" y="3048120"/>
            <a:ext cx="3597120" cy="2396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248520" y="2133720"/>
            <a:ext cx="2643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228600"/>
            <a:ext cx="6858000" cy="2590920"/>
          </a:xfrm>
          <a:prstGeom prst="rect">
            <a:avLst/>
          </a:prstGeom>
          <a:solidFill>
            <a:srgbClr val="ff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ir is not the whole head of h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one or two strands of hair.”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Jean Li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953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762120"/>
            <a:ext cx="7467840" cy="274320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memoir will come not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our memories but al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our imagination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y Cal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19320" y="7621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ge Canadian Dictionary:  “Memoir: n. a record of a person’s own experienc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30492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haracteristics of a Memoir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07480" cy="5029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moir is a story about something that happened to the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 tells the story from the first person point of view (“I”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irs often make the reader feel an emotion that the writer is recalling (fear, anger, happiness, sadness, etc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irs are often stories about events that are  important to the wri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 doesn’t tell how he or she felt about the event, but shows you through the actions and conversations of the characters in the memoir and through sensory detai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moir is not an autobiography.  It is about a single event in the writer’s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0:37:02Z</dcterms:created>
  <dc:creator>nbdoe</dc:creator>
  <dc:description/>
  <dc:language>en-US</dc:language>
  <cp:lastModifiedBy>nbdoe</cp:lastModifiedBy>
  <dcterms:modified xsi:type="dcterms:W3CDTF">2007-09-24T01:41:03Z</dcterms:modified>
  <cp:revision>3</cp:revision>
  <dc:subject/>
  <dc:title>MEMOIRS</dc:title>
</cp:coreProperties>
</file>